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827-EA40-4D2E-AE08-87E97989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A5E-80D2-4725-9081-0B81917C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480-6557-4BFC-A413-D1FF66E2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093-8EE3-493B-A841-9096A61E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E650-6E58-4BBA-A77B-70B2A21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000A-E2AE-45EF-B93B-FDA68184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94B9-0C35-4F9A-995F-083CFB5B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D0BE-6B5E-4A6F-8C6E-EA74D3CB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8C57-1583-4B44-AD51-A6751601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779B-3B3F-4203-939A-928D53A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06BA-1EFE-442D-A4A7-4D5EBF65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F64-621A-4446-8BFD-6BF0C9B0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E338-3E2A-4D25-A077-F0B043EA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5A2D-5FC3-43D7-9589-1F04DFC7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BC00-1A78-4E16-95B5-EA05A2A6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F6A8-AC31-4628-872D-CDC30399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29A1-9E9D-4341-95B3-28463C2E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0D6-1145-46E6-89E9-4A29D2C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D0B-8D91-4E9F-8EE2-6596D46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A4D-FEFA-49AB-8727-AB175C49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5D4-57AA-4EC5-8AFE-D483ABCC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9D3-FA1E-4308-986E-4A6A08C7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35C-C460-477A-9D90-6F57E1B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355-1D8B-41EA-9BF0-4C0EDBE0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3A5-3509-405B-98E1-2BF4923777C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383-32FF-47CE-8A64-FBDE5120CBF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lassroom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alsh (200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the topic of discu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often control both content and proced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who may participate and w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udents take their cues from the teac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sk questions to which they know the answer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talk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modify their talk to lear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re responsible for managing the interaction that occ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ers’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(recitation) vs. dialogic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Mono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leads to an ‘authoritative discourse’ in which the teacher delivers a set of pre-packaged knowledge (Skidmore, 20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Dia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offers an ‘emancipatory alternative’ (Lyle, 1998) so that knowledge is co-constructed and students’ experiences and interpretations are valued and explo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ono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sel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ignores attempts by learners to introduce other top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responses tend to be sh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ually there is only one correct ans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Nystrand, 199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amples of IR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’s the boy do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’ moves in natural conver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ancis and Hunston (1992) classify f move in terms of function e.g. ‘terminating’ or ‘endorsing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gre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ver mi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a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urns are evenly distributed between spea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takes fewer tu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F not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 responses build on previous students’ responses (‘chained’ Gutierrez, 199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s self-se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and students negotiate sub-topics for discu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s exist for which there are no pre-specified correct answ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Nystrand, 2007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nalysing Classroom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dentify IRF pa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at kinds of questions does the teacher a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o controls the tal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or dialogic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omment on the quality of the teacher’s tal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u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ullen lists 5 effective feedback mo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Elab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Com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pet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sponsiv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Arial"/>
              </a:rPr>
              <a:t>What does each mean and do you agree it is effectiv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planfm</cp:lastModifiedBy>
  <dcterms:modified xsi:type="dcterms:W3CDTF">2009-11-12T13:40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